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C0B-0DB9-4A1B-88E0-C4D715A9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6C3-72E7-469E-A497-8D729302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6AE-53B8-4A6A-AF78-92637D4F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1D5-A202-426D-847E-DCF97B0D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4EC5D-246E-4985-9695-81F3B5E7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7CEE1-1120-467C-8AED-8ACCAEB9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58AAC-4F81-4404-BBAE-79FA32D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5155A-5199-488F-B532-06CC914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67B4B-02DC-4697-81CE-670BB6C3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79F2A-113B-4456-A770-FD1B97A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6D5F-9E7F-42AF-BEEF-C77ED95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AE6-7AEB-4A44-9078-1B7A683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A7E0-1A03-445D-B269-FF06654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6C2C-5D3B-4DFE-8FCA-1CB032F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1994A-8798-4AC9-B696-BB80BAFF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18D8B-C917-4AA0-94AF-53880D61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19DA-4237-44EA-811F-CB511133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187-8A1E-4B9C-AFB7-B34352AB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A12-5EB7-4CF3-95EB-88A65724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B62-4754-47EE-ABD7-E3A0FD3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6BF-145F-497C-A0EE-53AF5C1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BA9-4C5B-4644-9C5C-199339A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8EB-21E8-434C-B23A-0D50A50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855-C4D7-411B-8F93-9026D83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58CB-194F-4C55-B6E2-94BFB6E80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CB6B-5A30-49FA-9657-95968D0D9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09320" y="5029200"/>
            <a:ext cx="57150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Written by: Ella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440" y="533520"/>
            <a:ext cx="8763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The Adventures Of A Marke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228600"/>
            <a:ext cx="764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news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instantly become fam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earn enough money to get a ink refill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67360" y="5410080"/>
            <a:ext cx="117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arker Felt"/>
              </a:rPr>
              <a:t>Ye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70360" y="62784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420840" y="304920"/>
            <a:ext cx="96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wash into a river and float downstrea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get bor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60320" y="57150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1880" y="22860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instantly fall in love with a fish and mar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600" y="9907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Down in the deep blue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60480" y="1676520"/>
            <a:ext cx="30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Cha-Cha-Ch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70480" y="49309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1680" y="7621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arker Felt"/>
              </a:rPr>
              <a:t>You are a marker.  You can’t find your marker buddies.  You are bored.  Your ink is running out.  Your cap falls of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30640" y="4191120"/>
            <a:ext cx="448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Wait to be drawn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1320" y="5410080"/>
            <a:ext cx="6921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You roll off the table onto the flo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626760" y="380880"/>
            <a:ext cx="103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A kid comes and finds your lid off.  He puts it back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9000" y="5943600"/>
            <a:ext cx="7944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He takes it off again and draws with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64080" y="5029200"/>
            <a:ext cx="5415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Marker Felt"/>
              </a:rPr>
              <a:t>He puts you in your box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480" y="457200"/>
            <a:ext cx="56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are rolling out of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roll into a dr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see two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1160" y="4373640"/>
            <a:ext cx="331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You roll into a p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15600" y="5059440"/>
            <a:ext cx="61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You wait to be washed into the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67920" y="30492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He draws a picture of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57800"/>
            <a:ext cx="304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He throws i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39720" y="5410080"/>
            <a:ext cx="486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He puts it in the newspaper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Marker Fel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9120" y="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look around and see your frie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41320" y="609480"/>
            <a:ext cx="33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are happ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64280" y="53341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50160" y="3808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There was a sea sna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got bitt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You ran out of 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70000" y="513396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00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It gets really d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320" y="1496880"/>
            <a:ext cx="56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You wait ,and wait, and wai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but it doesn’t r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960" y="5715000"/>
            <a:ext cx="9324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Lightning strikes and rain comes pouring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56960" y="5105520"/>
            <a:ext cx="4999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Marker Felt"/>
              </a:rPr>
              <a:t>You hitch a ride on a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343800" y="380880"/>
            <a:ext cx="96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rker Felt"/>
              </a:rPr>
              <a:t>He puts your cap back on and you become b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9480" y="571500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arker Felt"/>
              </a:rPr>
              <a:t>Beginning :(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7:15Z</dcterms:created>
  <dc:creator>Bruce Gordon</dc:creator>
  <dc:description/>
  <dc:language>en-US</dc:language>
  <cp:lastModifiedBy>West Shore  School District</cp:lastModifiedBy>
  <dcterms:modified xsi:type="dcterms:W3CDTF">2009-04-02T19:32:28Z</dcterms:modified>
  <cp:revision>8</cp:revision>
  <dc:subject/>
  <dc:title>PowerPoint Presentation</dc:title>
</cp:coreProperties>
</file>